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571A54B-C60E-435B-9FC5-C010A89B2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8C2-62AC-4923-9604-4871E95D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8EE-AD3D-497B-8B2B-461DA9C0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A1B-1C81-4A45-BA85-C9F5532E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0C1-0A38-40BD-9E33-DDCD4442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A801-26A5-4EB4-99C8-8F1FCAF5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BB9F-8ECD-4A03-BF14-4ED40528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B635-7601-4BAA-A990-CD214345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5482-9770-46C9-8686-F36EFAA7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7AA9-D58C-475B-BB56-F1ACA94E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80DD-CA39-4FCF-8AE7-A724DEA1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01C3-3349-41EB-9EEF-123B4890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D74-72FC-4B02-A3FB-66A13EC9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D3A9-AC9D-462C-93B4-B7E75B6B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77D8-7017-40E5-95A0-4A612815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1778-DAA3-40BD-B871-13604259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8326-3978-45B8-A57D-70A1D552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E855-766C-4553-AD04-0F7F6008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C48-19B8-46AC-997C-C585FEA3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AE16-C1DC-453E-9912-77061302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2C3-0C78-4954-A9B0-553060E8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F00-1BB9-4237-A01D-B318008C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1CA-801E-427F-8768-5F211D82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829-F340-4433-9F08-8AEA9F1D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66D-EF65-4444-AB07-016CCBEE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AF57-6AFB-4D19-A389-91B31167DDEA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9857-FC6C-4E9D-94E5-417D1F19B614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284F-99DB-4183-BCFD-7020883EF7A7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00296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Quadratic and Trigonometric Relations</a:t>
            </a:r>
            <a:br>
              <a:rPr sz="4400"/>
            </a:b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Session 1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2444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om Chap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Judy Menda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1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1905120"/>
            <a:ext cx="8497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Algebraic reasoning can help you to describe and analyze generalized quadratic relations and change using words and symbols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2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representations of quadratic relations highlight different characteristics and serve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3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1905120"/>
            <a:ext cx="8497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Comparing quadratic relations with other relations (e.g. linear) provides insight into the defining characteristics of a quadratic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4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information about a quadratic relation can sometimes, but not always, reveal other information about that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1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Trigonometric relations can help you to describe and analyze periodic relationships and change using words and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2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trigonometric function can be represented in multiple ways (numerically, graphically, geometrically and algebraically) and each representation highlights different characteristics or behaviours, and can serve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3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The periodic nature of trigonometric relations necessitates the creation of a new class of rela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4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information about a periodic relationship can sometimes, but not always, reveal other information about that relatio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20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Match Me Up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match each question to the big idea that it is most likely to elic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20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Match Me Up!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Share:  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questions were easiest / most difficult to map?  Why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common elements are evident in the questions that help students develop understanding of the big idea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us your name and Boar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ne thing that you hope to get out of this breakout session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ne success that you have had teaching rel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d469b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a Big Idea and write your own question (for Quadratic or Trig relations) that gets at that Big Id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member to label the Big Idea on your stic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name on the b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it on your way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the Big Ideas of Quadratic and Trigonometric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connections between the overall expectations and the big ideas of Quadratic and Trigonometric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ing sense of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3176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ur big ideas for quadratic relations and four big ideas for trigonometric relations are posted, one on each side of each corner of the roo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73664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your table, you will find two envelo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envelope contains overall expectations from various grade 10, 11 and 12 courses related to quadratic relations OR trigonometric relations.  Select a partner. Choose an envelope and then select one expectation (so each pair will have two expectations) from that enve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73664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your partner, walk around the room and discuss the Big Ideas through the lens of your expec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your expectation, go to the corner that it best connects to. (You and your partner may need to separat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9051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your corner, discuss your rationale for matching the overall expectation to that big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may change your corner if your discussion made you rethink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you are ready, post your overall expectation under the big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051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ner Sh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How are the expectations for quadratic and trigonometric relations the same for that Big Idea?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llery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Turn and T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905120"/>
            <a:ext cx="8399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ner Share:  Find three new people to work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080" indent="-271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How easy / difficult was it to assign an overall expectation to a big idea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Are the overall expectations sufficient to get at the big ideas?  Why or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What role do students’ prior experiences play in the development of their understanding of the big ide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What challenges might you as a teacher face when providing students with learning opportunities that focus on developing understanding of the big idea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eel District School Board</cp:lastModifiedBy>
  <dcterms:modified xsi:type="dcterms:W3CDTF">2009-08-25T02:53:13Z</dcterms:modified>
  <cp:revision>123</cp:revision>
  <dc:subject/>
  <dc:title>Math GAINS 2008-09</dc:title>
</cp:coreProperties>
</file>